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6-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окументационное обеспечение – основа технологии управления. Организация службы ДО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Задачи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форм и методов работы с документ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единого порядка документирования, организации работы с документ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я информационно-поисковых систем, контроля исполнения и подготовки документов к передаче в архив в соответствии с действующими норматив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 документооборо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фикацию форм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у и внедрение нормативных и методических документов по совершенствованию документационного обеспечения управления в организации, ее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дрение новейших информационных технологий в работу с докум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40" y="32508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иды работ выполняемые службой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хнологическ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онны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тодическ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трольны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технологически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ение первоначальной (экспедиционной) обработки входящ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 входящих, исходящих и внутренн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ение информационно-справочной работы по документам орган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шинописное изготовление документов (набор текста на компьютере); копирование, тиражирование и оперативное размножение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и проектирование бланков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документов к отпра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онны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к докладу руководству поступающих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своевременного рассмотрения документов руководством организ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улирование хода исполнения документов, прохождения и исполнения документов в установленный ср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хранения документов в структурных подразделения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ты архива в соответствии с правилами, инструкциями и методическими рекомендациями Рос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квалификации работников делопроизводственной службы и архив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чих мест работников делопроизводственной службы, в том числе автоматизированных рабочих мест (АРМ), условий труда сотрудников делопроизводственной служб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по обращениям гражда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а (совместно с соответствующими структурными подразделениями организации) мероприятий по совершенствованию форм и методов работы с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онтрольны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93640"/>
            <a:ext cx="82296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правильностью оформления документов, представляемых на подпись руководству (т. е. исходящих и внутренних документ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сроками исполнения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контроля за правильностью оформления и формирования в структурных подразделениях организации дел, подлежащих сдаче в архи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контроля за работой с документами в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бщение сведений о ходе и результатах исполнения документов, систематическое информирование руководства по этим вопрос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хранения дел и оперативного использования документной информац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методически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номенклатуры дел организации, инструкции по делопроизводству, табеля форм документов и других локальных нормативных документов, закрепляющих систему делопроизводства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экспертизы научной и практической ценност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совещаний и консультирование по вопросам, относящимся к компетенции делопроизводственной служ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Должностной состав службы ДОУ включает три категории работников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20940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ководители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ециалисты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хнические исполн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 категории руководителей, возглавляющих делопроизводственную службу, относятся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яющий дел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анцеляр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общи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протокольны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ик секретари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экспеди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центром подготовк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опировально-множительным бю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машинописным бю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атегория специалистов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91880"/>
            <a:ext cx="8229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ументове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щник руководи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 по контролю за исполнением поруч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а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еогра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арь коллег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ре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атегория технических исполнителей: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ди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опроизвод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ий секрет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ь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ор оргтехн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ивари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машин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 руковод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EB89-BD7F-4A39-A72E-826939205E8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Регламентация деятельности службы ДОУ осуществляетс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ожением о службе Д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лжностными инструкциями работников службы ДО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беле форм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факторы, влияющие на численность работников службы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я численность работников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 документооборота организации (количество входящей, исходящей и внутренней документации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раты труда на выполнение делопроизводственных работ (рассчитываются по существующим нормативам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еречислите действующие нормативные документы, регламентирующие задачи и функции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еречислите задач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зовите функци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еречислите состав категорий руководителей, возглавляющих службу ДОУ, специалистов, технических исполн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локальные нормативные документы регламентируют деятельность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еречислите основные факторы, влияющие на численность работников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46AA-DFEE-4397-80B6-148CF8C16EA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создании службы делопроизводства должны быть решены следующие вопросы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, функции и задачи делопроизводственной служб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ая форма делопроизвод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остной и численный соста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онные требования, предъявляемые к работникам делопроизводственной сфе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лужба ДОУ руководствуетс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одательными акта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ативно-методическими документами по вопросам делопроизводства и архивного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казами и распоряжениями руко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ением о служб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стными инструкциями ее работ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цель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уществить в полной мере все действия по документационному обеспечению деятельности организаци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ковод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ординац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ализац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ы организации делопроизводства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нтрализов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централизованна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еш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централизация,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зволяет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286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зить стоимость делопроизводственных опер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ить организацию труда делопроизводственного персонала и, в частности, внедрить его нормир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специализацию и взаимозаменяемость рабо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ть прогрессивные и производительные технические сре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единство организационного и методического руко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Основных положениях ГСДОУ рекомендуется создавать следующие делопроизводственные службы (структуры организаций)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едеральных органах исполнительной власти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ие дел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зличных предприятиях: государственных, не государственных, научно-исследовательских, проектных, конструкторских, высших учебных заведениях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тдел документационного обеспечения или канцеляр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ах местного самоуправления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бщий отде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правление делами имеет следующий типовой состав структурных подразделений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551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пекция при минис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 колле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спед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правительственной перепис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учета и регист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уппа контроля (бюро, отдел, инспекц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шинописное бюро (компьютерный центр обработки текстов документ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пировально-множительное бю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писем (отдел по работе с обращениями гражд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тральный архи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рационализации делопроизводства (центр совершенствования документации (ДОУ), бюро НОТ или НОУТ, методический сектор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0:05:28Z</dcterms:modified>
  <cp:revision>133</cp:revision>
  <dc:subject/>
  <dc:title>Lecture Template </dc:title>
</cp:coreProperties>
</file>